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5.wmf" ContentType="image/x-wm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35A-17F0-4E1D-8002-D0A3908B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E6F-0D31-413B-9A86-3AE3E6AC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541-2109-4129-94DE-19E79919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BAB-3277-4CAF-88E5-5AD80AB2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5E77-323F-4603-8CEC-1522993F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2BEC-F703-4D04-BC40-0F522814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D8DB-D013-4373-B712-C6DC15B8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B751-6195-4CC1-9B07-9D8566A9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495A-7979-4991-B787-65D5D983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D7A2-B35D-46D3-BEEC-85B11A41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416B-D5EE-4E6C-A5A2-16941CA5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FBB-EBE0-4ED9-A6F4-7C30CFCB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9102-B69B-4951-8939-F9D3FE38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2236-2C94-4A3F-A45E-D0F8432D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A3A6-8C5F-4BC6-B33B-A24E1AAA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E1BF-2B6E-4000-AD50-302382C6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BD77-83D8-4102-8563-4FC8C214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621BF-5AAF-4403-AD89-B1EBFA70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DA519-4A98-44DE-8CDF-4696F6B7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87F85-E714-43ED-BC61-82D2759D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326BD-8EA9-4E63-A60D-C9C68B82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36BB9-C759-495E-BD60-74DA3E5D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16D-E41A-450A-ABF0-6AC81DC6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8DB15-E315-481D-A727-76BEF130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8DF32-FC1C-4201-8C79-9C10EF05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A6F90-7BC1-4CCB-A84D-4ED96E4F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6501-04BF-4F4A-B77A-D1F76493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8CCF9-D4CB-473C-8BED-0E5945BD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6ECED-D3D2-48B9-AD9C-A98BA925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C631A-31C4-43C5-81C0-8C0C80CB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CF985-7ABC-442D-AAD2-9ECE3DCF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17862-69F7-454E-AA59-4B17F9F6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01254-5F1D-41D7-8132-EC1EF9E1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CF3-56A0-42E9-B9D5-8497119D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F20CB-9C6D-483F-913B-7336D9AE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5572A-43D1-4104-95B0-6786159F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7A2D2-18BD-4AA9-A240-BBA64B94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A5F3B-2B6F-4FD0-930D-6AAA2449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7A108-FAB5-4D1B-B3AF-88F9CE16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A15A7-4FCA-49AE-92EE-17C1F62B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EEB7D-65B5-441E-87A5-529AE1A5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19FB4-AD5E-4456-AA9F-00010239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C5542-3BDC-4E0B-9D9F-A7EA2D2C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6F60B-F14C-4C28-9E40-8CD7D950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E2F-7D04-4DD7-87CF-E26E51A4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44282-783E-4D59-9D52-2046506B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ECB23-15EE-4242-9F69-57E2C80D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557C4-D4DD-4E11-8E8A-8BCCE15E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74EF7-FA73-4ABE-936F-D49BCF6D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7DC8A-B7E0-49FF-BB26-6DCBB7A4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B16A2-82C1-4BB7-9588-AF0FEAD1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F614D-9E17-460A-9331-C713CE6A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14A04-5CA1-43CD-97A2-7AF5D0BF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4A289-E2DD-4694-A68B-8AFBA6A8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CB3FF-E1A3-44C6-B268-4D97BDB1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5BD-5193-44BF-95C0-4246CA25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AC518-C0D0-4419-814F-BEF678B2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B73-F70B-4825-A1BA-A8279308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242-A6AE-434D-8AF8-CD3F94A0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0B7-C775-4764-86B9-09E52E0A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2EB3D-0C38-4D88-8355-40B33F55200C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" name="Freeform 28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6c911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46485-DAB9-499F-BF35-8A9B26797317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ECD61-EE93-4858-891B-17E1185E3272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A5FF3-FFEC-482F-9339-0A53CA2A83CA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17CA0-68A8-4312-A393-C6999B1C4D68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4"/>
          <p:cNvSpPr txBox="1"/>
          <p:nvPr/>
        </p:nvSpPr>
        <p:spPr>
          <a:xfrm>
            <a:off x="990720" y="1836720"/>
            <a:ext cx="7162560" cy="318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3f3f3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he Factors</a:t>
            </a:r>
            <a:endParaRPr b="0" lang="en-US" sz="1800" spc="1" strike="noStrike">
              <a:ln w="0">
                <a:noFill/>
              </a:ln>
              <a:solidFill>
                <a:srgbClr val="f3f3f3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3f3f3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hat Affect</a:t>
            </a:r>
            <a:endParaRPr b="0" lang="en-US" sz="1800" spc="1" strike="noStrike">
              <a:ln w="0">
                <a:noFill/>
              </a:ln>
              <a:solidFill>
                <a:srgbClr val="f3f3f3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3f3f3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limate</a:t>
            </a:r>
            <a:endParaRPr b="0" lang="en-US" sz="1800" spc="1" strike="noStrike">
              <a:ln w="0">
                <a:noFill/>
              </a:ln>
              <a:solidFill>
                <a:srgbClr val="f3f3f3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987480" y="790560"/>
            <a:ext cx="7170840" cy="52768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7"/>
          <p:cNvSpPr/>
          <p:nvPr/>
        </p:nvSpPr>
        <p:spPr>
          <a:xfrm>
            <a:off x="1660680" y="460836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The windward sides of the Adirondacks &amp; Catskills receive a great deal more precipitation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Line 8"/>
          <p:cNvSpPr/>
          <p:nvPr/>
        </p:nvSpPr>
        <p:spPr>
          <a:xfrm flipV="1">
            <a:off x="4572000" y="2971440"/>
            <a:ext cx="228600" cy="1676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Line 9"/>
          <p:cNvSpPr/>
          <p:nvPr/>
        </p:nvSpPr>
        <p:spPr>
          <a:xfrm flipV="1">
            <a:off x="4572000" y="4419360"/>
            <a:ext cx="95256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6848640" y="790560"/>
            <a:ext cx="1904760" cy="20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The leeward sides of the Adirondacks &amp; Catskills receive much less precipitation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Line 11"/>
          <p:cNvSpPr/>
          <p:nvPr/>
        </p:nvSpPr>
        <p:spPr>
          <a:xfrm flipH="1">
            <a:off x="6553080" y="1752480"/>
            <a:ext cx="60984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Line 12"/>
          <p:cNvSpPr/>
          <p:nvPr/>
        </p:nvSpPr>
        <p:spPr>
          <a:xfrm flipH="1">
            <a:off x="5638680" y="2057400"/>
            <a:ext cx="1371600" cy="2057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over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2"/>
          <p:cNvSpPr/>
          <p:nvPr/>
        </p:nvSpPr>
        <p:spPr>
          <a:xfrm>
            <a:off x="838080" y="571680"/>
            <a:ext cx="7467840" cy="6057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How does the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Orographic Effect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affect climat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Windward Side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:  ___________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Leeward Side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: _____________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2200320" y="3962520"/>
            <a:ext cx="4743360" cy="26096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7"/>
          <p:cNvSpPr/>
          <p:nvPr/>
        </p:nvSpPr>
        <p:spPr>
          <a:xfrm>
            <a:off x="4952880" y="26668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cool, mois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4800600" y="3209760"/>
            <a:ext cx="24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warm, dr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strips dir="l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5" descr="elandtemp"/>
          <p:cNvPicPr/>
          <p:nvPr/>
        </p:nvPicPr>
        <p:blipFill>
          <a:blip r:embed="rId1"/>
          <a:stretch/>
        </p:blipFill>
        <p:spPr>
          <a:xfrm>
            <a:off x="1417680" y="990720"/>
            <a:ext cx="6307200" cy="5521320"/>
          </a:xfrm>
          <a:prstGeom prst="rect">
            <a:avLst/>
          </a:prstGeom>
          <a:ln w="0">
            <a:noFill/>
          </a:ln>
        </p:spPr>
      </p:pic>
      <p:sp>
        <p:nvSpPr>
          <p:cNvPr id="308" name="WordArt 6"/>
          <p:cNvSpPr txBox="1"/>
          <p:nvPr/>
        </p:nvSpPr>
        <p:spPr>
          <a:xfrm>
            <a:off x="6122880" y="174600"/>
            <a:ext cx="286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Elev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727280" y="1095480"/>
            <a:ext cx="5688000" cy="4667040"/>
          </a:xfrm>
          <a:prstGeom prst="rect">
            <a:avLst/>
          </a:prstGeom>
          <a:ln w="0">
            <a:noFill/>
          </a:ln>
        </p:spPr>
      </p:pic>
      <p:sp>
        <p:nvSpPr>
          <p:cNvPr id="310" name="WordArt 5"/>
          <p:cNvSpPr txBox="1"/>
          <p:nvPr/>
        </p:nvSpPr>
        <p:spPr>
          <a:xfrm>
            <a:off x="6122880" y="174600"/>
            <a:ext cx="286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Elev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230640" y="4697280"/>
            <a:ext cx="3500280" cy="281160"/>
          </a:xfrm>
          <a:prstGeom prst="rect">
            <a:avLst/>
          </a:prstGeom>
          <a:solidFill>
            <a:srgbClr val="0000ff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Line 8"/>
          <p:cNvSpPr/>
          <p:nvPr/>
        </p:nvSpPr>
        <p:spPr>
          <a:xfrm flipH="1">
            <a:off x="5257440" y="3809880"/>
            <a:ext cx="6858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split dir="in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5" descr="tmp_monthly_07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559908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8"/>
          <p:cNvSpPr/>
          <p:nvPr/>
        </p:nvSpPr>
        <p:spPr>
          <a:xfrm>
            <a:off x="666720" y="6095880"/>
            <a:ext cx="7810560" cy="82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uring summer, temperature is strongly controlled by elevation -- cold at the higher reaches of the Alaska and Brooks Ranges, and warmer in the lowlands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2"/>
          <p:cNvSpPr/>
          <p:nvPr/>
        </p:nvSpPr>
        <p:spPr>
          <a:xfrm>
            <a:off x="838080" y="571680"/>
            <a:ext cx="7467840" cy="6057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How does elevation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affect climat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s elevation _________, the averag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nnual temperature __________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Line 4"/>
          <p:cNvSpPr/>
          <p:nvPr/>
        </p:nvSpPr>
        <p:spPr>
          <a:xfrm>
            <a:off x="3352680" y="3657600"/>
            <a:ext cx="0" cy="2209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Line 5"/>
          <p:cNvSpPr/>
          <p:nvPr/>
        </p:nvSpPr>
        <p:spPr>
          <a:xfrm flipH="1">
            <a:off x="3321000" y="5867280"/>
            <a:ext cx="2286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3192480" y="601992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levation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Text Box 7"/>
          <p:cNvSpPr/>
          <p:nvPr/>
        </p:nvSpPr>
        <p:spPr>
          <a:xfrm rot="16200000">
            <a:off x="2086200" y="448452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Line 8"/>
          <p:cNvSpPr/>
          <p:nvPr/>
        </p:nvSpPr>
        <p:spPr>
          <a:xfrm>
            <a:off x="3581280" y="3657600"/>
            <a:ext cx="1981440" cy="19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3567240" y="2421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increas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5334120" y="29354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decreas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push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5"/>
          <p:cNvSpPr txBox="1"/>
          <p:nvPr/>
        </p:nvSpPr>
        <p:spPr>
          <a:xfrm>
            <a:off x="6122880" y="174600"/>
            <a:ext cx="286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Ocean Curren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4" name="Picture 6" descr=""/>
          <p:cNvPicPr/>
          <p:nvPr/>
        </p:nvPicPr>
        <p:blipFill>
          <a:blip r:embed="rId1"/>
          <a:stretch/>
        </p:blipFill>
        <p:spPr>
          <a:xfrm>
            <a:off x="457200" y="843120"/>
            <a:ext cx="8229600" cy="471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sst_brown"/>
          <p:cNvPicPr/>
          <p:nvPr/>
        </p:nvPicPr>
        <p:blipFill>
          <a:blip r:embed="rId1"/>
          <a:stretch/>
        </p:blipFill>
        <p:spPr>
          <a:xfrm>
            <a:off x="1600200" y="685800"/>
            <a:ext cx="5943600" cy="5943600"/>
          </a:xfrm>
          <a:prstGeom prst="rect">
            <a:avLst/>
          </a:prstGeom>
          <a:ln w="0">
            <a:noFill/>
          </a:ln>
        </p:spPr>
      </p:pic>
      <p:sp>
        <p:nvSpPr>
          <p:cNvPr id="326" name="WordArt 6"/>
          <p:cNvSpPr txBox="1"/>
          <p:nvPr/>
        </p:nvSpPr>
        <p:spPr>
          <a:xfrm>
            <a:off x="5105520" y="5715000"/>
            <a:ext cx="20286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Gulf Stre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2"/>
          <p:cNvSpPr/>
          <p:nvPr/>
        </p:nvSpPr>
        <p:spPr>
          <a:xfrm>
            <a:off x="838080" y="1409760"/>
            <a:ext cx="7467840" cy="4038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How do ocean current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affect climat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Warm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Currents: 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warmer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climat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Cold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Currents:  </a:t>
            </a: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cooler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climat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4"/>
          <p:cNvSpPr/>
          <p:nvPr/>
        </p:nvSpPr>
        <p:spPr>
          <a:xfrm>
            <a:off x="762120" y="609480"/>
            <a:ext cx="8076960" cy="5715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rebuchet MS"/>
              </a:rPr>
              <a:t>Identifying five factors 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rebuchet MS"/>
              </a:rPr>
              <a:t>that affect climate 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rebuchet MS"/>
              </a:rPr>
              <a:t>and explaining 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rebuchet MS"/>
              </a:rPr>
              <a:t>how each 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rebuchet MS"/>
              </a:rPr>
              <a:t>affects climate.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Current Sea Surface Temperature Plot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4"/>
          <p:cNvSpPr txBox="1"/>
          <p:nvPr/>
        </p:nvSpPr>
        <p:spPr>
          <a:xfrm>
            <a:off x="6078600" y="144360"/>
            <a:ext cx="2862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titu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2"/>
          <p:cNvSpPr/>
          <p:nvPr/>
        </p:nvSpPr>
        <p:spPr>
          <a:xfrm>
            <a:off x="838080" y="571680"/>
            <a:ext cx="7467840" cy="5715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How does latitude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affect climat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 latitude ________, the averag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nnual temperature _________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Line 3"/>
          <p:cNvSpPr/>
          <p:nvPr/>
        </p:nvSpPr>
        <p:spPr>
          <a:xfrm>
            <a:off x="3352680" y="3429000"/>
            <a:ext cx="0" cy="2209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Line 4"/>
          <p:cNvSpPr/>
          <p:nvPr/>
        </p:nvSpPr>
        <p:spPr>
          <a:xfrm flipH="1">
            <a:off x="3321000" y="5638680"/>
            <a:ext cx="2286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192480" y="579132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0°           Latitude      90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Text Box 7"/>
          <p:cNvSpPr/>
          <p:nvPr/>
        </p:nvSpPr>
        <p:spPr>
          <a:xfrm rot="16200000">
            <a:off x="2086200" y="425592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3581280" y="3429000"/>
            <a:ext cx="1981440" cy="19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5334120" y="2362320"/>
            <a:ext cx="230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decrease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3301920" y="1835280"/>
            <a:ext cx="214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crease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wheel spokes="1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7"/>
          <p:cNvSpPr/>
          <p:nvPr/>
        </p:nvSpPr>
        <p:spPr>
          <a:xfrm>
            <a:off x="228600" y="93600"/>
            <a:ext cx="8686800" cy="744480"/>
          </a:xfrm>
          <a:prstGeom prst="roundRect">
            <a:avLst>
              <a:gd name="adj" fmla="val 16667"/>
            </a:avLst>
          </a:prstGeom>
          <a:solidFill>
            <a:srgbClr val="000000">
              <a:alpha val="5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541680" cy="5181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2"/>
          <a:stretch/>
        </p:blipFill>
        <p:spPr>
          <a:xfrm>
            <a:off x="4743360" y="993600"/>
            <a:ext cx="3519720" cy="5137200"/>
          </a:xfrm>
          <a:prstGeom prst="rect">
            <a:avLst/>
          </a:prstGeom>
          <a:ln w="0">
            <a:noFill/>
          </a:ln>
        </p:spPr>
      </p:pic>
      <p:sp>
        <p:nvSpPr>
          <p:cNvPr id="279" name="WordArt 6"/>
          <p:cNvSpPr txBox="1"/>
          <p:nvPr/>
        </p:nvSpPr>
        <p:spPr>
          <a:xfrm>
            <a:off x="330120" y="152280"/>
            <a:ext cx="8483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loseness to Large Bodies of Wat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-2028960" y="-21031200"/>
          <a:ext cx="8229600" cy="5176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1" name="Picture 23" descr=" "/>
          <p:cNvPicPr/>
          <p:nvPr/>
        </p:nvPicPr>
        <p:blipFill>
          <a:blip r:embed="rId1"/>
          <a:stretch/>
        </p:blipFill>
        <p:spPr>
          <a:xfrm>
            <a:off x="6629400" y="1523880"/>
            <a:ext cx="228456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-2028960" y="-20513520"/>
          <a:ext cx="208080" cy="47913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819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  </a:t>
                      </a:r>
                      <a:r>
                        <a:rPr b="0" lang="en-US" sz="132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                                                                                     </a:t>
                      </a:r>
                      <a:r>
                        <a:rPr b="0" lang="en-US" sz="13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  </a:t>
                      </a:r>
                      <a:r>
                        <a:rPr b="0" lang="en-US" sz="132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3" name="Picture 17" descr=" "/>
          <p:cNvPicPr/>
          <p:nvPr/>
        </p:nvPicPr>
        <p:blipFill>
          <a:blip r:embed="rId2"/>
          <a:stretch/>
        </p:blipFill>
        <p:spPr>
          <a:xfrm>
            <a:off x="228600" y="1562040"/>
            <a:ext cx="2382840" cy="3733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5" descr="Polar projection"/>
          <p:cNvPicPr/>
          <p:nvPr/>
        </p:nvPicPr>
        <p:blipFill>
          <a:blip r:embed="rId3"/>
          <a:stretch/>
        </p:blipFill>
        <p:spPr>
          <a:xfrm>
            <a:off x="2728800" y="1585800"/>
            <a:ext cx="3686400" cy="36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2"/>
          <p:cNvSpPr/>
          <p:nvPr/>
        </p:nvSpPr>
        <p:spPr>
          <a:xfrm>
            <a:off x="838080" y="571680"/>
            <a:ext cx="7467840" cy="6057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Yard Sale"/>
              </a:rPr>
              <a:t>How does closeness to a larg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Yard Sale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Yard Sale"/>
              </a:rPr>
              <a:t>body of water affect climate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Water __________ the temperature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_______ summers.  _______ winters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1"/>
          <a:stretch/>
        </p:blipFill>
        <p:spPr>
          <a:xfrm>
            <a:off x="1449360" y="3627360"/>
            <a:ext cx="3427560" cy="29275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9"/>
          <p:cNvSpPr/>
          <p:nvPr/>
        </p:nvSpPr>
        <p:spPr>
          <a:xfrm>
            <a:off x="4784760" y="3541680"/>
            <a:ext cx="329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ity  B is closer to a large body of water.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ts temperature line is flatter (moderated)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2395440" y="180972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moderat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1693800" y="2990880"/>
            <a:ext cx="282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ities A &amp; B are located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at the same latitude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1066680" y="2286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Cooler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4800600" y="2286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Warmer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hecke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cli11"/>
          <p:cNvPicPr/>
          <p:nvPr/>
        </p:nvPicPr>
        <p:blipFill>
          <a:blip r:embed="rId1"/>
          <a:stretch/>
        </p:blipFill>
        <p:spPr>
          <a:xfrm>
            <a:off x="914400" y="1623960"/>
            <a:ext cx="7315200" cy="3610080"/>
          </a:xfrm>
          <a:prstGeom prst="rect">
            <a:avLst/>
          </a:prstGeom>
          <a:ln w="0">
            <a:noFill/>
          </a:ln>
        </p:spPr>
      </p:pic>
      <p:sp>
        <p:nvSpPr>
          <p:cNvPr id="293" name="WordArt 7"/>
          <p:cNvSpPr txBox="1"/>
          <p:nvPr/>
        </p:nvSpPr>
        <p:spPr>
          <a:xfrm>
            <a:off x="6095880" y="0"/>
            <a:ext cx="286236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Orographic Effec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sh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precip"/>
          <p:cNvPicPr/>
          <p:nvPr/>
        </p:nvPicPr>
        <p:blipFill>
          <a:blip r:embed="rId1"/>
          <a:stretch/>
        </p:blipFill>
        <p:spPr>
          <a:xfrm>
            <a:off x="2286000" y="901800"/>
            <a:ext cx="4570560" cy="5054400"/>
          </a:xfrm>
          <a:prstGeom prst="rect">
            <a:avLst/>
          </a:prstGeom>
          <a:ln w="0">
            <a:noFill/>
          </a:ln>
        </p:spPr>
      </p:pic>
      <p:sp>
        <p:nvSpPr>
          <p:cNvPr id="295" name="WordArt 5"/>
          <p:cNvSpPr txBox="1"/>
          <p:nvPr/>
        </p:nvSpPr>
        <p:spPr>
          <a:xfrm>
            <a:off x="6095880" y="0"/>
            <a:ext cx="286236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Orographic Effec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02:02:27Z</dcterms:created>
  <dc:creator>Mark Place</dc:creator>
  <dc:description/>
  <dc:language>en-US</dc:language>
  <cp:lastModifiedBy>Jeremy Rasik</cp:lastModifiedBy>
  <dcterms:modified xsi:type="dcterms:W3CDTF">2016-10-03T18:48:35Z</dcterms:modified>
  <cp:revision>34</cp:revision>
  <dc:subject/>
  <dc:title>Factors that Affect Climate</dc:title>
</cp:coreProperties>
</file>